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6867-6233-4E4A-96A5-7BE2A7F50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4C3F-65F7-4311-97F2-11088DDC9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6682-EB83-482A-90AA-32579C931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365D-9270-4034-8927-90632B50C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83359-561E-493F-AA03-0DE8E4C8C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F7950-CA68-4130-93E1-2E0F0E99D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6A866-07F6-40E1-B2B4-A1ACD8420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3D2B0-DFFC-4CE9-B3DA-6882C11F0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E88ED-4F48-4809-9178-CF9C1F5FC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C0FE1-DBBD-4CE5-9CFE-B83BC042E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6BF52-028E-4ADB-A780-B631AA8C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31CC-69CA-4358-B477-307D83EDF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C9DFF-CD6F-4A06-AE21-AC373D82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C2586-7F01-4999-B87F-15197BBE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BD7C6-DBC9-48E1-A94D-135582B69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1D818-23C0-4CBF-A42A-A7EE3B4EC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0B80B-66E9-441B-879D-538AC3C13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639EA-1BBB-4121-9279-2CFDB4C68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CE4B5-5A37-4C82-BFC2-4E55FFFD4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30EB5-8AFB-4979-9C3F-93EDCFCDC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F81E1-6CF0-40D5-855E-C8D0A50CA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CFA2D-6827-4852-B617-20C6825BF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8B2C-430A-4DD2-BBEF-AF2B3B0BA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146D4-4783-404B-A242-391EC6300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ABF8C-1F94-4551-874A-020BA4F6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A6DD2-54F9-4604-83D1-E95EE9DE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0676D-A990-43B2-8E8D-13870409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F371A-291B-4A10-9C28-55C859F3C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F5DD6-E9EA-4B1F-8989-A484AAB90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78769-9804-40AF-AAC7-022911C06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A975-9287-4D59-995B-AF3C14537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9992-19A5-405F-B6A4-7F3302507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AD45-A997-40F0-98BF-B59868D9F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0AB3-66A4-4A55-97A7-1ABEB160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B71F-3DD8-442E-AEBC-118FC220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F64E-78A7-4B8C-87E4-66E9723A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02D10-8A4E-495F-9C9D-A123561BF90C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6EA0-5616-4C81-A1B8-55B354B9661D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49B07-9D77-4447-A546-1DD2A7135C8A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067280" y="3141720"/>
            <a:ext cx="507672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Tahoma"/>
                <a:cs typeface="????Boutros Rokaa"/>
              </a:rPr>
              <a:t>يسوع أنت إلهي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50292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يسوع أنتَ إلهي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حُبُكَ شافـيَ الوحيد،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80880" y="0"/>
            <a:ext cx="46483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نتَ حبيبُ نفسي أبداً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سوع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نتَ من أريد. 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876920" y="0"/>
            <a:ext cx="41148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Tahoma"/>
                <a:cs typeface="Akhbar MT"/>
              </a:rPr>
              <a:t>تنحني لاسمِكَ كل رُكبَة ويعترفُ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Tahoma"/>
                <a:cs typeface="Akhbar MT"/>
              </a:rPr>
              <a:t>كلّ لسان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140360" y="836640"/>
            <a:ext cx="5002200" cy="515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إسمُك يسوعُ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خلاصي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أُرَدّدُه في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كلِّ حين. 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50292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يسوع أنتَ إلهي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حُبُكَ شافـيَ الوحيد،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80880" y="0"/>
            <a:ext cx="46483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نتَ حبيبُ نفسي أبداً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سوع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نتَ من أريد. 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50292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يسوع أنتَ إلهي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حُبُكَ شافـيَ الوحيد،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80880" y="0"/>
            <a:ext cx="46483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نتَ حبيبُ نفسي أبداً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سوع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نتَ من أريد. 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876920" y="0"/>
            <a:ext cx="426708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ahoma"/>
                <a:cs typeface="Akhbar MT"/>
              </a:rPr>
              <a:t>أسجُدُ أمامَكَ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ahoma"/>
                <a:cs typeface="Akhbar MT"/>
              </a:rPr>
              <a:t>إلهي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ahoma"/>
                <a:cs typeface="Akhbar MT"/>
              </a:rPr>
              <a:t>أعترفُ بـِكَ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ahoma"/>
                <a:cs typeface="Akhbar MT"/>
              </a:rPr>
              <a:t>مَلِكي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429080" y="189000"/>
            <a:ext cx="4680000" cy="626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cc00"/>
                </a:solidFill>
                <a:latin typeface="Tahoma"/>
                <a:cs typeface="Akhbar MT"/>
              </a:rPr>
              <a:t>ها هي حياتي في يديكَ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cc00"/>
                </a:solidFill>
                <a:latin typeface="Tahoma"/>
                <a:cs typeface="Akhbar MT"/>
              </a:rPr>
              <a:t>إفعلْ بها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cc00"/>
                </a:solidFill>
                <a:latin typeface="Tahoma"/>
                <a:cs typeface="Akhbar MT"/>
              </a:rPr>
              <a:t>ما تُريد. 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15920"/>
            <a:ext cx="5029200" cy="642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يسوع أنتَ إلهي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حُبُكَ شافـيَ الوحيد،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50920" y="44280"/>
            <a:ext cx="4647960" cy="652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أنتَ حبيبُ نفسي أبداً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يسوع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أنتَ من أريد. 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91000" y="0"/>
            <a:ext cx="5553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24000" y="0"/>
            <a:ext cx="38862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ahoma"/>
                <a:cs typeface="Akhbar MT"/>
              </a:rPr>
              <a:t>تعالَ واملُكْ على قلبي أتوقُ إليكَ تعال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747800" y="171360"/>
            <a:ext cx="491184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cs typeface="Akhbar MT"/>
              </a:rPr>
              <a:t>تُرنِّمُ لكَ شفتايَ</a:t>
            </a:r>
            <a:endParaRPr b="0" lang="en-US" sz="9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cs typeface="Akhbar MT"/>
              </a:rPr>
              <a:t>أحبُّك للأبدِ. </a:t>
            </a:r>
            <a:endParaRPr b="0" lang="en-US" sz="9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7T20:40:08Z</dcterms:created>
  <dc:creator>Charbel Azar</dc:creator>
  <dc:description/>
  <dc:language>en-US</dc:language>
  <cp:lastModifiedBy>ف</cp:lastModifiedBy>
  <dcterms:modified xsi:type="dcterms:W3CDTF">2006-07-04T10:59:33Z</dcterms:modified>
  <cp:revision>13</cp:revision>
  <dc:subject/>
  <dc:title>PowerPoint Presentation</dc:title>
</cp:coreProperties>
</file>